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94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CF2FA-BA61-4837-AFB6-452520A3F6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7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DC260-2505-4839-93CE-D84BC75783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ch the meaning of hay.  Ask student Que hay en las clase and get a response. Hay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7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9022D-0077-467B-A8E7-5D2972C1F1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How are plurals formed in English and how is this different from Spanish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5427A-5929-4756-A330-543ABE6FA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7337A-630E-4DD4-A8B7-17D815D2A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1476F-543E-4E78-B01B-CD6903FDD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E57F6-03F1-4087-8074-6B5A852DF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5BFCD-FC88-4003-985B-75FE828E3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3B47F-0A10-40DC-8C47-AF3358E92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73DA5-3ECE-47B4-AAB2-22BA018B8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F4A45-2176-4316-AEE9-74C035A90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FA848-AB1E-4012-A681-5B8F7D1AD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43CDC-231D-4A55-96BF-43CDD1175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B5A65-C69D-412C-8914-91DFAE3B4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E621B-1166-4C9C-AFF2-A40570BA3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E1FA6-F43B-4EBB-A091-B768E1DFDD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686800" cy="117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P.1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scan0007"/>
          <p:cNvPicPr/>
          <p:nvPr/>
        </p:nvPicPr>
        <p:blipFill>
          <a:blip r:embed="rId1"/>
          <a:stretch/>
        </p:blipFill>
        <p:spPr>
          <a:xfrm>
            <a:off x="1371600" y="0"/>
            <a:ext cx="7543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80010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y the box (from p. 1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scan0002"/>
          <p:cNvPicPr/>
          <p:nvPr/>
        </p:nvPicPr>
        <p:blipFill>
          <a:blip r:embed="rId1"/>
          <a:stretch/>
        </p:blipFill>
        <p:spPr>
          <a:xfrm>
            <a:off x="228600" y="914400"/>
            <a:ext cx="8915400" cy="51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scan0003"/>
          <p:cNvPicPr/>
          <p:nvPr/>
        </p:nvPicPr>
        <p:blipFill>
          <a:blip r:embed="rId1"/>
          <a:stretch/>
        </p:blipFill>
        <p:spPr>
          <a:xfrm>
            <a:off x="685800" y="457200"/>
            <a:ext cx="800100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ÁGINA 14, EJERCICIO 3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240" y="1066680"/>
            <a:ext cx="84582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Write the plural form of the word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Be sure to follow the rules in the Gramática Box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l alumno 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l profesor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l proyector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l ordenador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a ventana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l libro___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l rotulador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l lápiz____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ÁGINA 14, EJERCICIO 3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240" y="1066680"/>
            <a:ext cx="84582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Write the plural form of the word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Be sure to follow the rules in the Gramática Box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un alumno 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un profesor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Un proyector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un ordenador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una ventana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un libro___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un rotulador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un lápiz____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to use hay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) Use INDEFINITE articles (UN, UNA, UNOS, UNAS) to be specifi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ay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una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oma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 mi estuche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re is an eraser in my backpac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ay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uno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l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ápices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n mi mochila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Arial"/>
              </a:rPr>
              <a:t>There are some pencils in my backpac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2) DON´T USE ARTICLES with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Hay” when talking in general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Hay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gomas, lápices y bolígrafos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n mi mochil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Arial"/>
              </a:rPr>
              <a:t>There are erasers, pencils, and pens in my backpac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0" y="-360"/>
            <a:ext cx="914400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) DO NOT USE DEFINITE ARTICLES (EL, LA, LOS, LAS) AFTER HAY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examp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AR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OOKS IN THE CLA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es this sound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better to say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ARE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SOM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OOKS IN THE CLA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late to Spanish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________________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5T07:44:51Z</dcterms:created>
  <dc:creator>wanda.snowfrost</dc:creator>
  <dc:description/>
  <dc:language>en-US</dc:language>
  <cp:lastModifiedBy>wanda.snowfrost</cp:lastModifiedBy>
  <dcterms:modified xsi:type="dcterms:W3CDTF">2015-10-22T03:58:32Z</dcterms:modified>
  <cp:revision>98</cp:revision>
  <dc:subject/>
  <dc:title>El dieciséis de octubre</dc:title>
</cp:coreProperties>
</file>